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02C0-104C-4F51-9819-BB96C9B08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B822-68E0-4D3F-83A8-D5EFD4FE6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75A0-0A17-4D0C-B36D-F8D33C6EA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A177-F6EE-43B4-863F-9984049B1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F7DD-D9B8-40D3-8FE7-166CBCEC7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C882-5BB6-4B25-AE59-339864B3C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8FC1-34C5-4F71-90DA-BE159F890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02A1-D466-4518-9065-7EFD6374C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9674-36DE-4776-8CA7-6CCECB6AD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5836-B2A5-4EA5-9AE1-2C469B1E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7F7C-EB22-436F-AEFE-3B7D1B02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DD8E-EDF9-4140-9864-B7BA58F4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C2E88-F95D-48D9-86A4-6DA962C911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187280" y="1197000"/>
            <a:ext cx="698508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1"/>
          <p:cNvSpPr/>
          <p:nvPr/>
        </p:nvSpPr>
        <p:spPr>
          <a:xfrm>
            <a:off x="250920" y="2407320"/>
            <a:ext cx="655308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2"/>
          <p:cNvSpPr/>
          <p:nvPr/>
        </p:nvSpPr>
        <p:spPr>
          <a:xfrm>
            <a:off x="1547640" y="1197000"/>
            <a:ext cx="712800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Я патриот. Я воздух русски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Я землю русскую любл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Я верю, что нигде на све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Второй такой не отыщ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                                    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.Ког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5" descr=""/>
          <p:cNvPicPr/>
          <p:nvPr/>
        </p:nvPicPr>
        <p:blipFill>
          <a:blip r:embed="rId2"/>
          <a:stretch/>
        </p:blipFill>
        <p:spPr>
          <a:xfrm>
            <a:off x="1285920" y="-85680"/>
            <a:ext cx="8053200" cy="2427120"/>
          </a:xfrm>
          <a:prstGeom prst="rect">
            <a:avLst/>
          </a:prstGeom>
          <a:ln w="0">
            <a:noFill/>
          </a:ln>
        </p:spPr>
      </p:pic>
      <p:pic>
        <p:nvPicPr>
          <p:cNvPr id="46" name="Neizvesten_-_Gimn_Rossii_So_slovami.mp3" descr=""/>
          <p:cNvPicPr/>
          <p:nvPr/>
        </p:nvPicPr>
        <p:blipFill>
          <a:blip r:embed="rId3"/>
          <a:stretch/>
        </p:blipFill>
        <p:spPr>
          <a:xfrm>
            <a:off x="8244000" y="6021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1187280" y="1197000"/>
            <a:ext cx="698508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"/>
          <p:cNvSpPr/>
          <p:nvPr/>
        </p:nvSpPr>
        <p:spPr>
          <a:xfrm>
            <a:off x="576360" y="186480"/>
            <a:ext cx="8207280" cy="40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оя Родина –э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амыми трудными событиями моей Родины был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не хотелось бы, чтобы моя Родина была сам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огда я вырасту, я хочу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Я не хочу, чтобы моя Родин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Я благодарен(а) своей Родине за то, ч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3"/>
          <p:cNvSpPr/>
          <p:nvPr/>
        </p:nvSpPr>
        <p:spPr>
          <a:xfrm>
            <a:off x="1187280" y="1197000"/>
            <a:ext cx="698508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"/>
          <p:cNvSpPr/>
          <p:nvPr/>
        </p:nvSpPr>
        <p:spPr>
          <a:xfrm>
            <a:off x="468360" y="93240"/>
            <a:ext cx="8207280" cy="31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сни пословиц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Человек без Родины, что соловей без пес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 родном краю - сокол, в чужом – воро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3"/>
          <p:cNvSpPr/>
          <p:nvPr/>
        </p:nvSpPr>
        <p:spPr>
          <a:xfrm>
            <a:off x="1187280" y="1197000"/>
            <a:ext cx="698508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"/>
          <p:cNvSpPr/>
          <p:nvPr/>
        </p:nvSpPr>
        <p:spPr>
          <a:xfrm>
            <a:off x="971640" y="194040"/>
            <a:ext cx="6624720" cy="32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то такой патрио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4" descr="https://gupostbpoexternalizaciondeservicios.files.wordpress.com/2013/11/26-gupost-servicios-outsourcing.jpg"/>
          <p:cNvPicPr/>
          <p:nvPr/>
        </p:nvPicPr>
        <p:blipFill>
          <a:blip r:embed="rId1"/>
          <a:stretch/>
        </p:blipFill>
        <p:spPr>
          <a:xfrm>
            <a:off x="1349280" y="1557360"/>
            <a:ext cx="6661080" cy="51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1187280" y="1197000"/>
            <a:ext cx="698508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https://avatars.mds.yandex.net/i?id=611fec8d70285e639eb8704052ae16b5_l-5380059-images-thumbs&amp;n=13"/>
          <p:cNvPicPr/>
          <p:nvPr/>
        </p:nvPicPr>
        <p:blipFill>
          <a:blip r:embed="rId1"/>
          <a:stretch/>
        </p:blipFill>
        <p:spPr>
          <a:xfrm>
            <a:off x="971640" y="115920"/>
            <a:ext cx="7332480" cy="549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"/>
          <p:cNvSpPr/>
          <p:nvPr/>
        </p:nvSpPr>
        <p:spPr>
          <a:xfrm>
            <a:off x="1187280" y="1197000"/>
            <a:ext cx="698508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"/>
          <p:cNvSpPr/>
          <p:nvPr/>
        </p:nvSpPr>
        <p:spPr>
          <a:xfrm>
            <a:off x="684360" y="750240"/>
            <a:ext cx="8208720" cy="29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«Да» - я считаю себя патриотом, потому что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«Нет» – я не считаю себя патриотом, потому что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468360" y="189000"/>
            <a:ext cx="8567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Быть патриотом… Что же это значи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А это значит Родину люб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А это значит честно, бескорыст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Отечеству любимому служ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                 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Любить его историю седу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                 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Святые лики русских матере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                 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Которые не раз в годину злу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                 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В бой провожали собственных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Учить детей гордиться своим род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И честь его блюсти и сохраня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Быть лучшей частью русского народ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Которую не смог никто подмя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Е. Ковал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6920" y="400500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5" descr=""/>
          <p:cNvPicPr/>
          <p:nvPr/>
        </p:nvPicPr>
        <p:blipFill>
          <a:blip r:embed="rId1"/>
          <a:stretch/>
        </p:blipFill>
        <p:spPr>
          <a:xfrm>
            <a:off x="1042920" y="404640"/>
            <a:ext cx="685800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10:37:39Z</dcterms:created>
  <dc:creator>Ильдар</dc:creator>
  <dc:description/>
  <dc:language>en-US</dc:language>
  <cp:lastModifiedBy>Пользователь</cp:lastModifiedBy>
  <dcterms:modified xsi:type="dcterms:W3CDTF">2025-02-06T01:36:30Z</dcterms:modified>
  <cp:revision>57</cp:revision>
  <dc:subject/>
  <dc:title>Шаблон для презентации</dc:title>
</cp:coreProperties>
</file>